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3.wmf" ContentType="image/x-wmf"/>
  <Override PartName="/ppt/media/image15.jpeg" ContentType="image/jpeg"/>
  <Override PartName="/ppt/media/image18.jpeg" ContentType="image/jpeg"/>
  <Override PartName="/ppt/media/image14.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22C54-C006-4DD0-B774-9C84B47CD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C6382-9866-40B3-BC6F-285B3015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C63EF-7665-426D-8A43-FA757C30F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B5D75-8666-4F0E-A2A7-9A470984A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ACB0E-68DE-430B-B499-3BB885A6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FDC1-4C6C-4657-B67F-DC99B9F8A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C5F5D-0D79-44DA-BDFA-22188B46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255B-2D16-4FC6-B6BE-DFA2435C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08A1-35C7-4123-AC44-DB725C3F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66A7-7320-40F9-A20A-8503AE16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DA27-D0F7-4E61-918F-E715C8E9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0F5A-C1A7-4AC3-9691-DE8BA7F7F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3869-C6D5-4543-A8CA-B4AC1AD253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chives.gov/publications/prologue/2004/winter/images/pearl-harbor.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bh.knu.ac.kr/~sdsong/images/Atomic%20Bomb.gif"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http://images.google.com/imgres?imgurl=http://www.bibl.u-szeged.hu/bibl/mil/ww1/who/lenin.jpg&amp;imgrefurl=http://www.bibl.u-szeged.hu/bibl/mil/ww1/who/lenin.html&amp;h=474&amp;w=339&amp;sz=48&amp;tbnid=CqU308hefWqLQM:&amp;tbnh=129&amp;tbnw=92&amp;prev=/images%3Fq%3Dlenin%2Bphotos&amp;start=1&amp;sa=X&amp;oi=images&amp;ct=image&amp;cd=1" TargetMode="External"/><Relationship Id="rId4" Type="http://schemas.openxmlformats.org/officeDocument/2006/relationships/image" Target="../media/image14.jpeg"/><Relationship Id="rId5" Type="http://schemas.openxmlformats.org/officeDocument/2006/relationships/hyperlink" Target="http://images.google.com/imgres?imgurl=http://www.leksikon.org/images/stalin_josef.jpg&amp;imgrefurl=http://www.leksikon.org/art.php%3Fn%3D2424&amp;h=201&amp;w=194&amp;sz=6&amp;tbnid=ix6a8M6NzYUR5M:&amp;tbnh=104&amp;tbnw=100&amp;prev=/images%3Fq%3Dstalin%2Bphotos&amp;start=3&amp;sa=X&amp;oi=images&amp;ct=image&amp;cd=3" TargetMode="External"/><Relationship Id="rId6" Type="http://schemas.openxmlformats.org/officeDocument/2006/relationships/image" Target="../media/image15.jpe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hyperlink" Target="http://www.kitty-hawk.com/tours/Wright_Brothers_Photos_-_KH/1b2.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tic.howstuffworks.com/gif/ozone-pollution-smog.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www.dismalworld.com/im/world_tour/japanese-culture-and-westernization.jpg&amp;imgrefurl=http://www.dismalworld.com/world_tour/japanese_culture_and_westernization.php&amp;h=331&amp;w=410&amp;sz=39&amp;hl=en&amp;start=17&amp;tbnid=onPVr5HeUBS1FM:&amp;tbnh=101&amp;tbnw=125&amp;prev=/images%3Fq%3Djapanese%2Band%2Bwestern%2Bculture%26svnum%3D10%26hl%3Den%26rls%3DRNWE,RNWE:2006-35,RNWE:en%26sa%3DX"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omenshistory.about.com/library/graphics/suffrage_banners_1913.jpg&amp;imgrefurl=http://womenshistory.about.com/library/pic/bl_p_suffrage_banners.htm&amp;h=498&amp;w=400&amp;sz=51&amp;hl=en&amp;start=25&amp;tbnid=TbpfuMjlKibzwM:&amp;tbnh=130&amp;tbnw=104&amp;prev=/images%3Fq%3Dwomen%2527s%2Bsuffrage%26start%3D20%26ndsp%3D20%26svnum%3D10%26hl%3Den%26rls%3DRNWE,RNWE:2006-35,RNWE:en%26sa%3DN"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news.bbc.co.uk/media/images/36599000/jpg/_36599391_uganda_schools300.jpg&amp;imgrefurl=http://news.bbc.co.uk/1/low/sci/tech/1896552.stm&amp;h=180&amp;w=300&amp;sz=15&amp;hl=en&amp;start=6&amp;tbnid=iuIw-X7H3NEbDM:&amp;tbnh=70&amp;tbnw=116&amp;prev=/images%3Fq%3Dafrican%2Bschools%26svnum%3D10%26hl%3Den%26rls%3DRNWE,RNWE:2006-35,RNWE:e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cache.boston.com/bonzai-fba/Third_Party_Photo/2005/12/31/1136041239_0950.jpg&amp;imgrefurl=http://www.boston.com/news/globe/ideas/articles/2006/01/01/the_artist_as_a_young_mandarin/&amp;h=300&amp;w=233&amp;sz=16&amp;hl=en&amp;start=4&amp;tbnid=iSM2A0Mc3s4h8M:&amp;tbnh=116&amp;tbnw=90&amp;prev=/images%3Fq%3Dt.s.%2Belliot%26svnum%3D10%26hl%3Den%26rls%3DRNWE,RNWE:2006-35,RNWE:en"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buytaert.net/cache/images-miscellaneous-2005-generations-of-chain-700x700.jpg&amp;imgrefurl=http://buytaert.net/album/miscellaneous-2005/generations-of-chain&amp;h=465&amp;w=700&amp;sz=358&amp;hl=en&amp;start=14&amp;tbnid=WmrsC93L7xuHsM:&amp;tbnh=93&amp;tbnw=140&amp;prev=/images%3Fq%3Dgenerations%26svnum%3D10%26hl%3Den%26rls%3DRNWE,RNWE:2006-35,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apa.org/apf/mind.jpg&amp;imgrefurl=http://www.apa.org/apf/mcguiganprize.html&amp;h=750&amp;w=1050&amp;sz=75&amp;hl=en&amp;start=1&amp;tbnid=uYehITeTmnW2QM:&amp;tbnh=107&amp;tbnw=150&amp;prev=/images%3Fq%3Dhuman%2Bmind%26svnum%3D10%26hl%3Den%26rls%3DRNWE,RNWE:2006-35,RNWE:en"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tn3-1.deviantart.com/300W/fs7.deviantart.com/i/2005/203/4/8/The_human_mind_by_DeeDeeAreMaster.jpg&amp;imgrefurl=http://deedeearemaster.deviantart.com/&amp;h=291&amp;w=300&amp;sz=19&amp;hl=en&amp;start=11&amp;tbnid=HEEUv4rHpqcnnM:&amp;tbnh=113&amp;tbnw=116&amp;prev=/images%3Fq%3Dhuman%2Bmind%26svnum%3D10%26hl%3Den%26rls%3DRNWE,RNWE:2006-35,RNWE:en"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lu.hiof.no/~st/2002-03/team2/drama/bilder/kunstkort/Picasso-Tre%2520musikanter.jpg&amp;imgrefurl=http://www.sepoina.it/grafix/index.htm&amp;h=1097&amp;w=1200&amp;sz=280&amp;hl=en&amp;start=4&amp;tbnid=PCSsUGiANa3OWM:&amp;tbnh=137&amp;tbnw=150&amp;prev=/images%3Fq%3Dpicasso%26svnum%3D10%26hl%3Den%26rls%3DRNWE,RNWE:2006-35,RNWE:en" TargetMode="External"/><Relationship Id="rId2" Type="http://schemas.openxmlformats.org/officeDocument/2006/relationships/image" Target="../media/image25.jpeg"/><Relationship Id="rId3" Type="http://schemas.openxmlformats.org/officeDocument/2006/relationships/hyperlink" Target="http://images.google.com/imgres?imgurl=http://www.ieeff.org/duchampnu2.jpg&amp;imgrefurl=http://www.ieeff.org/ny.html&amp;h=225&amp;w=131&amp;sz=14&amp;hl=en&amp;start=2&amp;tbnid=8GD9ypORc7DuiM:&amp;tbnh=108&amp;tbnw=63&amp;prev=/images%3Fq%3Dbraques%2Bnude%2Bdescending%2Ba%2Bstaircase%26svnum%3D10%26hl%3Den%26rls%3DRNWE,RNWE:2006-35,RNWE:en" TargetMode="External"/><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theorie.physik.unizh.ch/research_groups/particle/kandinsky.jpg&amp;imgrefurl=http://wordpress.com/tag/marc-chagall/feed/&amp;h=377&amp;w=545&amp;sz=53&amp;hl=en&amp;start=1&amp;tbnid=EPR-cfeeFDaOLM:&amp;tbnh=92&amp;tbnw=133&amp;prev=/images%3Fq%3Dkandinsky%26svnum%3D10%26hl%3Den%26rls%3DRNWE,RNWE:2006-35,RNWE:en"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s.google.com/imgres?imgurl=http://www.douban.com/lpic/s1318019.jpg&amp;imgrefurl=http://readerrant.capitolhillblue.com/eve/forums/a/tpc/f/4031026321/m/2901003781&amp;h=564&amp;w=420&amp;sz=50&amp;hl=en&amp;start=7&amp;tbnid=k4Dvyg5how_SJM:&amp;tbnh=134&amp;tbnw=100&amp;prev=/images%3Fq%3Dgone%2Bwith%2Bthe%2Bwind%26svnum%3D10%26hl%3Den%26rls%3DRNWE,RNWE:2006-35,RNWE:en"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spartacus.schoolnet.co.uk/FWWfoot.jpg&amp;imgrefurl=http://www.spartacus.schoolnet.co.uk/FWWfoot.htm&amp;h=290&amp;w=425&amp;sz=19&amp;hl=en&amp;start=1&amp;tbnid=RafQrXnh5_AIGM:&amp;tbnh=86&amp;tbnw=126&amp;prev=/images%3Fq%3Dpictures%2Bof%2Btrench%2Bfoot%26svnum%3D10%26hl%3Den%26rls%3DRNWE,RNWE:2006-35,RNWE:en%26sa%3D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stellar"/>
              </a:rPr>
              <a:t>Modernism</a:t>
            </a:r>
            <a:endParaRPr b="0" lang="en-US" sz="72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stellar"/>
              </a:rPr>
              <a:t>Senior English</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stellar"/>
              </a:rPr>
              <a:t>Ms. Bloemker</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I</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 War II lasted from 1939-1945.</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II surpassed WWI as history’s bloodiest conflic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r was fought on the land, in the air and at se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WWI many nations were in a state of upheaval. This lead to the rise of dictator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were nations in an upheaval?</a:t>
            </a:r>
            <a:endParaRPr b="0" lang="en-US" sz="2400" spc="-1" strike="noStrike">
              <a:solidFill>
                <a:srgbClr val="ffffff"/>
              </a:solidFill>
              <a:latin typeface="Arial"/>
            </a:endParaRPr>
          </a:p>
        </p:txBody>
      </p:sp>
      <p:pic>
        <p:nvPicPr>
          <p:cNvPr id="67" name="" descr=""/>
          <p:cNvPicPr/>
          <p:nvPr/>
        </p:nvPicPr>
        <p:blipFill>
          <a:blip r:embed="rId1"/>
          <a:stretch/>
        </p:blipFill>
        <p:spPr>
          <a:xfrm>
            <a:off x="4800600" y="1600200"/>
            <a:ext cx="396252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I Continued</a:t>
            </a:r>
            <a:endParaRPr b="0" lang="en-US" sz="4400" spc="-1" strike="noStrike">
              <a:solidFill>
                <a:srgbClr val="ccffff"/>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to Mussolini came to power in Italy. He supported fascism, which stressed loyalty to the state and obedience to the lea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lf Hitler came to power in Germany. He supported the Nazi party. This party held a belief that Germans were superior and should rule the world.</a:t>
            </a:r>
            <a:endParaRPr b="0" lang="en-US" sz="2400" spc="-1" strike="noStrike">
              <a:solidFill>
                <a:srgbClr val="ffffff"/>
              </a:solidFill>
              <a:latin typeface="Arial"/>
            </a:endParaRPr>
          </a:p>
        </p:txBody>
      </p:sp>
      <p:pic>
        <p:nvPicPr>
          <p:cNvPr id="70" name="" descr="Image:Munich agreement.jpg"/>
          <p:cNvPicPr/>
          <p:nvPr/>
        </p:nvPicPr>
        <p:blipFill>
          <a:blip r:embed="rId1"/>
          <a:stretch/>
        </p:blipFill>
        <p:spPr>
          <a:xfrm>
            <a:off x="457200" y="1828800"/>
            <a:ext cx="403848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olf Hitler</a:t>
            </a: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23, while in prison, Hitler wrote a book called </a:t>
            </a:r>
            <a:r>
              <a:rPr b="0" i="1" lang="en-US" sz="2000" spc="-1" strike="noStrike">
                <a:solidFill>
                  <a:srgbClr val="ffffff"/>
                </a:solidFill>
                <a:latin typeface="Arial"/>
              </a:rPr>
              <a:t>Mein Kampf.</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book he claims Germans are a “master race” and all other races are subhuman. He called the German race the “Aryan Rac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33 Hitler comes to power in Germany, and in 1942 he begins a mass extermination of all the Jewish peopl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knows what this mass extermination was called?</a:t>
            </a:r>
            <a:endParaRPr b="0" lang="en-US" sz="2000" spc="-1" strike="noStrike">
              <a:solidFill>
                <a:srgbClr val="ffffff"/>
              </a:solidFill>
              <a:latin typeface="Arial"/>
            </a:endParaRPr>
          </a:p>
        </p:txBody>
      </p:sp>
      <p:pic>
        <p:nvPicPr>
          <p:cNvPr id="73" name="" descr=""/>
          <p:cNvPicPr/>
          <p:nvPr/>
        </p:nvPicPr>
        <p:blipFill>
          <a:blip r:embed="rId1"/>
          <a:stretch/>
        </p:blipFill>
        <p:spPr>
          <a:xfrm>
            <a:off x="4800600" y="1523880"/>
            <a:ext cx="3962520" cy="441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th Toll of Holocaust</a:t>
            </a:r>
            <a:endParaRPr b="0" lang="en-US" sz="4400" spc="-1" strike="noStrike">
              <a:solidFill>
                <a:srgbClr val="ccffff"/>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stimated 5 to 6 million Jews,</a:t>
            </a:r>
            <a:r>
              <a:rPr b="0" lang="en-US" sz="2000" spc="-1" strike="noStrike" u="sng">
                <a:solidFill>
                  <a:srgbClr val="66ccff"/>
                </a:solidFill>
                <a:uFillTx/>
                <a:latin typeface="Arial"/>
                <a:hlinkClick r:id="rId1" action="ppaction://hlinksldjump"/>
              </a:rPr>
              <a:t>[34]</a:t>
            </a:r>
            <a:r>
              <a:rPr b="0" lang="en-US" sz="2000" spc="-1" strike="noStrike" u="sng">
                <a:solidFill>
                  <a:srgbClr val="ffffff"/>
                </a:solidFill>
                <a:uFillTx/>
                <a:latin typeface="Arial"/>
              </a:rPr>
              <a:t> including 3 million Polish Jew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 – 1.9 million Christian Poles and other (non-Jewish) Poles (estimate includes civilians killed as a result of Nazi aggression and occupation but does not include the military casualties of Nazi aggression or the victims of the Soviet occupation of eastern Poland and of deportations to Central Asia and Siberia)</a:t>
            </a:r>
            <a:r>
              <a:rPr b="0" lang="en-US" sz="2000" spc="-1" strike="noStrike" u="sng">
                <a:solidFill>
                  <a:srgbClr val="66ccff"/>
                </a:solidFill>
                <a:uFillTx/>
                <a:latin typeface="Arial"/>
                <a:hlinkClick r:id="rId2" action="ppaction://hlinksldjump"/>
              </a:rPr>
              <a:t>[35]</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00–800,000 Roma &amp; Sinti (Gypsie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00–300,000 people with disabilitie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0-200,000 European Freemasons [36]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 communis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25,000 homosexual me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0–5,000 Jehovah's Witnesses[3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arl Harbor</a:t>
            </a:r>
            <a:endParaRPr b="0" lang="en-US" sz="4400" spc="-1" strike="noStrike">
              <a:solidFill>
                <a:srgbClr val="ccffff"/>
              </a:solidFill>
              <a:latin typeface="Arial"/>
            </a:endParaRPr>
          </a:p>
        </p:txBody>
      </p:sp>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 did not get involved in WWII until 1941 when Japan bombed Pearl Harbor.</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tack killed around 2,388 people and wounded about 2,000 more</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Roosevelt described that day, December 7, 1941, as “a date which will live</a:t>
            </a:r>
            <a:r>
              <a:rPr b="0" lang="en-US" sz="2800" spc="-1" strike="noStrike">
                <a:solidFill>
                  <a:srgbClr val="ffffff"/>
                </a:solidFill>
                <a:latin typeface="Arial"/>
              </a:rPr>
              <a:t> </a:t>
            </a:r>
            <a:r>
              <a:rPr b="0" lang="en-US" sz="2400" spc="-1" strike="noStrike">
                <a:solidFill>
                  <a:srgbClr val="ffffff"/>
                </a:solidFill>
                <a:latin typeface="Arial"/>
              </a:rPr>
              <a:t>in infamy”.</a:t>
            </a:r>
            <a:endParaRPr b="0" lang="en-US" sz="2400" spc="-1" strike="noStrike">
              <a:solidFill>
                <a:srgbClr val="ffffff"/>
              </a:solidFill>
              <a:latin typeface="Arial"/>
            </a:endParaRPr>
          </a:p>
        </p:txBody>
      </p:sp>
      <p:pic>
        <p:nvPicPr>
          <p:cNvPr id="78" name="" descr="">
            <a:hlinkClick r:id="rId1"/>
          </p:cNvPr>
          <p:cNvPicPr/>
          <p:nvPr/>
        </p:nvPicPr>
        <p:blipFill>
          <a:blip r:embed="rId2"/>
          <a:stretch/>
        </p:blipFill>
        <p:spPr>
          <a:xfrm>
            <a:off x="457200" y="175248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clusion of WWII</a:t>
            </a:r>
            <a:endParaRPr b="0" lang="en-US" sz="4400" spc="-1" strike="noStrike">
              <a:solidFill>
                <a:srgbClr val="ccffff"/>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II ended in 1945 when Germany surrendered and America dropped two atomic bombs on Jap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mbs were dropped on Hiroshima and Nagasaki.</a:t>
            </a:r>
            <a:endParaRPr b="0" lang="en-US" sz="2800" spc="-1" strike="noStrike">
              <a:solidFill>
                <a:srgbClr val="ffffff"/>
              </a:solidFill>
              <a:latin typeface="Arial"/>
            </a:endParaRPr>
          </a:p>
        </p:txBody>
      </p:sp>
      <p:pic>
        <p:nvPicPr>
          <p:cNvPr id="81" name="" descr="">
            <a:hlinkClick r:id="rId1"/>
          </p:cNvPr>
          <p:cNvPicPr/>
          <p:nvPr/>
        </p:nvPicPr>
        <p:blipFill>
          <a:blip r:embed="rId2"/>
          <a:stretch/>
        </p:blipFill>
        <p:spPr>
          <a:xfrm>
            <a:off x="4876920" y="1752480"/>
            <a:ext cx="3733560" cy="40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ussian Revolution</a:t>
            </a:r>
            <a:endParaRPr b="0" lang="en-US" sz="4400" spc="-1" strike="noStrike">
              <a:solidFill>
                <a:srgbClr val="ccffff"/>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pic>
        <p:nvPicPr>
          <p:cNvPr id="84" name="" descr=""/>
          <p:cNvPicPr/>
          <p:nvPr/>
        </p:nvPicPr>
        <p:blipFill>
          <a:blip r:embed="rId2"/>
          <a:stretch/>
        </p:blipFill>
        <p:spPr>
          <a:xfrm>
            <a:off x="457200" y="3938760"/>
            <a:ext cx="4038480" cy="2187360"/>
          </a:xfrm>
          <a:prstGeom prst="rect">
            <a:avLst/>
          </a:prstGeom>
          <a:ln w="0">
            <a:noFill/>
          </a:ln>
        </p:spPr>
      </p:pic>
      <p:sp>
        <p:nvSpPr>
          <p:cNvPr id="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17 Vladimir Lenin became the ruler of Russia and by 1922 Russia had become the communist Soviet Union or USS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Lenin’s death, Joseph Stalin took power and control of citizens’ lives. People were forced to work on government farms and in government factor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ses were exiled to Siber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would opposes be sent to Siberia? Remember what we read in “A Problem”.</a:t>
            </a:r>
            <a:endParaRPr b="0" lang="en-US" sz="2000" spc="-1" strike="noStrike">
              <a:solidFill>
                <a:srgbClr val="ffffff"/>
              </a:solidFill>
              <a:latin typeface="Arial"/>
            </a:endParaRPr>
          </a:p>
        </p:txBody>
      </p:sp>
      <p:pic>
        <p:nvPicPr>
          <p:cNvPr id="86" name="" descr="http://www.bibl.u-szeged.hu/bibl/mil/ww1/who/lenin.html">
            <a:hlinkClick r:id="rId3"/>
          </p:cNvPr>
          <p:cNvPicPr/>
          <p:nvPr/>
        </p:nvPicPr>
        <p:blipFill>
          <a:blip r:embed="rId4"/>
          <a:stretch/>
        </p:blipFill>
        <p:spPr>
          <a:xfrm>
            <a:off x="380880" y="1523880"/>
            <a:ext cx="4191120" cy="2286000"/>
          </a:xfrm>
          <a:prstGeom prst="rect">
            <a:avLst/>
          </a:prstGeom>
          <a:ln w="0">
            <a:noFill/>
          </a:ln>
        </p:spPr>
      </p:pic>
      <p:pic>
        <p:nvPicPr>
          <p:cNvPr id="87" name="" descr="http://www.leksikon.org/art.php?n=2424">
            <a:hlinkClick r:id="rId5"/>
          </p:cNvPr>
          <p:cNvPicPr/>
          <p:nvPr/>
        </p:nvPicPr>
        <p:blipFill>
          <a:blip r:embed="rId6"/>
          <a:stretch/>
        </p:blipFill>
        <p:spPr>
          <a:xfrm>
            <a:off x="457200" y="3886200"/>
            <a:ext cx="41148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riumphs of Science and Technology</a:t>
            </a:r>
            <a:endParaRPr b="0" lang="en-US" sz="4000" spc="-1" strike="noStrike">
              <a:solidFill>
                <a:srgbClr val="cc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s, high-speed trains and jet planes allow us to travel quickl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television, film, computers, cell phones and the internet entertain and keep us connect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antibiotics, vaccines and surgeries fight disease.</a:t>
            </a:r>
            <a:endParaRPr b="0" lang="en-US" sz="24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fe expectancy has</a:t>
            </a:r>
            <a:r>
              <a:rPr b="0" lang="en-US" sz="2000" spc="-1" strike="noStrike">
                <a:solidFill>
                  <a:srgbClr val="ffffff"/>
                </a:solidFill>
                <a:latin typeface="Arial"/>
              </a:rPr>
              <a:t> climbed steadily upward </a:t>
            </a:r>
            <a:endParaRPr b="0" lang="en-US" sz="2000" spc="-1" strike="noStrike">
              <a:solidFill>
                <a:srgbClr val="ffffff"/>
              </a:solidFill>
              <a:latin typeface="Arial"/>
            </a:endParaRPr>
          </a:p>
        </p:txBody>
      </p:sp>
      <p:pic>
        <p:nvPicPr>
          <p:cNvPr id="90" name="" descr="">
            <a:hlinkClick r:id="rId1"/>
          </p:cNvPr>
          <p:cNvPicPr/>
          <p:nvPr/>
        </p:nvPicPr>
        <p:blipFill>
          <a:blip r:embed="rId2"/>
          <a:stretch/>
        </p:blipFill>
        <p:spPr>
          <a:xfrm>
            <a:off x="4572000" y="1981080"/>
            <a:ext cx="457200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ragedies of Science and Technology</a:t>
            </a:r>
            <a:endParaRPr b="0" lang="en-US" sz="4000" spc="-1" strike="noStrike">
              <a:solidFill>
                <a:srgbClr val="ccffff"/>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iological and chemical warfare (such as the atom bomb) has killed thousands and forever changed our worl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use of energy has depleted natural resources and polluted the air, soil and water.</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has biological and chemical warfare changed our world?</a:t>
            </a:r>
            <a:endParaRPr b="0" lang="en-US" sz="2400" spc="-1" strike="noStrike">
              <a:solidFill>
                <a:srgbClr val="ffffff"/>
              </a:solidFill>
              <a:latin typeface="Arial"/>
            </a:endParaRPr>
          </a:p>
        </p:txBody>
      </p:sp>
      <p:pic>
        <p:nvPicPr>
          <p:cNvPr id="93" name="" descr="">
            <a:hlinkClick r:id="rId1"/>
          </p:cNvPr>
          <p:cNvPicPr/>
          <p:nvPr/>
        </p:nvPicPr>
        <p:blipFill>
          <a:blip r:embed="rId2"/>
          <a:stretch/>
        </p:blipFill>
        <p:spPr>
          <a:xfrm>
            <a:off x="304920" y="1828800"/>
            <a:ext cx="41907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Smaller World</a:t>
            </a:r>
            <a:endParaRPr b="0" lang="en-US" sz="4400" spc="-1" strike="noStrike">
              <a:solidFill>
                <a:srgbClr val="ccffff"/>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conomic opportunities arose and new ideas challenged traditional ways of life.</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s mingled. This enriched nations, but also made some fear that they were loosing their native culture to Western culture.</a:t>
            </a:r>
            <a:endParaRPr b="0" lang="en-US" sz="2800" spc="-1" strike="noStrike">
              <a:solidFill>
                <a:srgbClr val="ffffff"/>
              </a:solidFill>
              <a:latin typeface="Arial"/>
            </a:endParaRPr>
          </a:p>
        </p:txBody>
      </p:sp>
      <p:pic>
        <p:nvPicPr>
          <p:cNvPr id="96" name="" descr="">
            <a:hlinkClick r:id="rId1"/>
          </p:cNvPr>
          <p:cNvPicPr/>
          <p:nvPr/>
        </p:nvPicPr>
        <p:blipFill>
          <a:blip r:embed="rId2"/>
          <a:stretch/>
        </p:blipFill>
        <p:spPr>
          <a:xfrm>
            <a:off x="304920" y="1523880"/>
            <a:ext cx="434340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a:t>
            </a:r>
            <a:endParaRPr b="0" lang="en-US" sz="4400" spc="-1" strike="noStrike">
              <a:solidFill>
                <a:srgbClr val="ccffff"/>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ism took place in the 20</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be discussing Modernism from 1900-195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 name="" descr=""/>
          <p:cNvPicPr/>
          <p:nvPr/>
        </p:nvPicPr>
        <p:blipFill>
          <a:blip r:embed="rId1"/>
          <a:stretch/>
        </p:blipFill>
        <p:spPr>
          <a:xfrm>
            <a:off x="380880" y="1523880"/>
            <a:ext cx="4114800" cy="4114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mocracy </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ic governments can be found on every conti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now vote in nearly every country that men do.</a:t>
            </a:r>
            <a:endParaRPr b="0" lang="en-US" sz="2800" spc="-1" strike="noStrike">
              <a:solidFill>
                <a:srgbClr val="ffffff"/>
              </a:solidFill>
              <a:latin typeface="Arial"/>
            </a:endParaRPr>
          </a:p>
        </p:txBody>
      </p:sp>
      <p:pic>
        <p:nvPicPr>
          <p:cNvPr id="99" name="" descr="">
            <a:hlinkClick r:id="rId1"/>
          </p:cNvPr>
          <p:cNvPicPr/>
          <p:nvPr/>
        </p:nvPicPr>
        <p:blipFill>
          <a:blip r:embed="rId2"/>
          <a:stretch/>
        </p:blipFill>
        <p:spPr>
          <a:xfrm>
            <a:off x="4876920" y="167652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ducation</a:t>
            </a:r>
            <a:endParaRPr b="0" lang="en-US" sz="4400" spc="-1" strike="noStrike">
              <a:solidFill>
                <a:srgbClr val="ccffff"/>
              </a:solidFill>
              <a:latin typeface="Arial"/>
            </a:endParaRPr>
          </a:p>
        </p:txBody>
      </p:sp>
      <p:sp>
        <p:nvSpPr>
          <p:cNvPr id="10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every country in the world provides a free elementary education.</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 of children receiving secondary educations has increased as well.</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Africa, more than 40% of the school-age population goes to secondary school.</a:t>
            </a:r>
            <a:endParaRPr b="0" lang="en-US" sz="2400" spc="-1" strike="noStrike">
              <a:solidFill>
                <a:srgbClr val="ffffff"/>
              </a:solidFill>
              <a:latin typeface="Arial"/>
            </a:endParaRPr>
          </a:p>
        </p:txBody>
      </p:sp>
      <p:pic>
        <p:nvPicPr>
          <p:cNvPr id="102" name="" descr="">
            <a:hlinkClick r:id="rId1"/>
          </p:cNvPr>
          <p:cNvPicPr/>
          <p:nvPr/>
        </p:nvPicPr>
        <p:blipFill>
          <a:blip r:embed="rId2"/>
          <a:stretch/>
        </p:blipFill>
        <p:spPr>
          <a:xfrm>
            <a:off x="457200" y="198108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ass Activity</a:t>
            </a:r>
            <a:endParaRPr b="0" lang="en-US" sz="44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urn to page 1104.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ssign you groups so that you can read a section and write about it on the 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at there are blank sections for this information on your study gu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 what is Modernism???</a:t>
            </a:r>
            <a:endParaRPr b="0" lang="en-US" sz="4400" spc="-1" strike="noStrike">
              <a:solidFill>
                <a:srgbClr val="ccffff"/>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m is a term used to describe the art, literature and thought of the first half of the 20</a:t>
            </a:r>
            <a:r>
              <a:rPr b="0" lang="en-US" sz="2400" spc="-1" strike="noStrike" baseline="30000">
                <a:solidFill>
                  <a:srgbClr val="ffffff"/>
                </a:solidFill>
                <a:latin typeface="Arial"/>
              </a:rPr>
              <a:t>th</a:t>
            </a:r>
            <a:r>
              <a:rPr b="0" lang="en-US" sz="2400" spc="-1" strike="noStrike">
                <a:solidFill>
                  <a:srgbClr val="ffffff"/>
                </a:solidFill>
                <a:latin typeface="Arial"/>
              </a:rPr>
              <a:t> centur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loved anything new and provocative and they fought against traditions of all kind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 of T.S. Elliot</a:t>
            </a:r>
            <a:endParaRPr b="0" lang="en-US" sz="2400" spc="-1" strike="noStrike">
              <a:solidFill>
                <a:srgbClr val="ffffff"/>
              </a:solidFill>
              <a:latin typeface="Arial"/>
            </a:endParaRPr>
          </a:p>
        </p:txBody>
      </p:sp>
      <p:pic>
        <p:nvPicPr>
          <p:cNvPr id="107" name="" descr="">
            <a:hlinkClick r:id="rId1"/>
          </p:cNvPr>
          <p:cNvPicPr/>
          <p:nvPr/>
        </p:nvPicPr>
        <p:blipFill>
          <a:blip r:embed="rId2"/>
          <a:stretch/>
        </p:blipFill>
        <p:spPr>
          <a:xfrm>
            <a:off x="5029200" y="1828800"/>
            <a:ext cx="3581280" cy="396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Modernism continued</a:t>
            </a:r>
            <a:endParaRPr b="0" lang="en-US" sz="44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st writers thought their world was radically different than the world in any other er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believe that this is true or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atures of Modernism</a:t>
            </a:r>
            <a:endParaRPr b="0" lang="en-US" sz="4400" spc="-1" strike="noStrike">
              <a:solidFill>
                <a:srgbClr val="ccffff"/>
              </a:solidFill>
              <a:latin typeface="Arial"/>
            </a:endParaRPr>
          </a:p>
        </p:txBody>
      </p:sp>
      <p:sp>
        <p:nvSpPr>
          <p:cNvPr id="11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used new styles and forms of writing.</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often felt alienated in a world of violence and anxiety.</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you ever felt alienated because your beliefs contradicted with the traditional beliefs of an older generation (like your parents)?</a:t>
            </a:r>
            <a:endParaRPr b="0" lang="en-US" sz="2400" spc="-1" strike="noStrike">
              <a:solidFill>
                <a:srgbClr val="ffffff"/>
              </a:solidFill>
              <a:latin typeface="Arial"/>
            </a:endParaRPr>
          </a:p>
        </p:txBody>
      </p:sp>
      <p:pic>
        <p:nvPicPr>
          <p:cNvPr id="112" name="" descr="">
            <a:hlinkClick r:id="rId1"/>
          </p:cNvPr>
          <p:cNvPicPr/>
          <p:nvPr/>
        </p:nvPicPr>
        <p:blipFill>
          <a:blip r:embed="rId2"/>
          <a:stretch/>
        </p:blipFill>
        <p:spPr>
          <a:xfrm>
            <a:off x="380880" y="182880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ind as a Subject</a:t>
            </a:r>
            <a:endParaRPr b="0" lang="en-US" sz="4400" spc="-1" strike="noStrike">
              <a:solidFill>
                <a:srgbClr val="ccffff"/>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nist writers often use the human mind as the subject of their writing. They focus on the thought process of a few main character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reason for this was that the Industrial Revolution gave people more free time to focus on themselves and thus their feelings and thoughts became more importan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you think this</a:t>
            </a:r>
            <a:r>
              <a:rPr b="0" lang="en-US" sz="2400" spc="-1" strike="noStrike">
                <a:solidFill>
                  <a:srgbClr val="ffffff"/>
                </a:solidFill>
                <a:latin typeface="Arial"/>
              </a:rPr>
              <a:t> </a:t>
            </a:r>
            <a:r>
              <a:rPr b="0" lang="en-US" sz="2000" spc="-1" strike="noStrike">
                <a:solidFill>
                  <a:srgbClr val="ffffff"/>
                </a:solidFill>
                <a:latin typeface="Arial"/>
              </a:rPr>
              <a:t>is?</a:t>
            </a:r>
            <a:endParaRPr b="0" lang="en-US" sz="2000" spc="-1" strike="noStrike">
              <a:solidFill>
                <a:srgbClr val="ffffff"/>
              </a:solidFill>
              <a:latin typeface="Arial"/>
            </a:endParaRPr>
          </a:p>
        </p:txBody>
      </p:sp>
      <p:pic>
        <p:nvPicPr>
          <p:cNvPr id="115" name="" descr="">
            <a:hlinkClick r:id="rId1"/>
          </p:cNvPr>
          <p:cNvPicPr/>
          <p:nvPr/>
        </p:nvPicPr>
        <p:blipFill>
          <a:blip r:embed="rId2"/>
          <a:stretch/>
        </p:blipFill>
        <p:spPr>
          <a:xfrm>
            <a:off x="4648320" y="16002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ream of Consciousness</a:t>
            </a:r>
            <a:endParaRPr b="0" lang="en-US" sz="4400" spc="-1" strike="noStrike">
              <a:solidFill>
                <a:srgbClr val="ccffff"/>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of consciousness writing occurs when an author follows the quick and unorganized flow a of a character’s thoughts and feelings.</a:t>
            </a:r>
            <a:endParaRPr b="0" lang="en-US" sz="2800" spc="-1" strike="noStrike">
              <a:solidFill>
                <a:srgbClr val="ffffff"/>
              </a:solidFill>
              <a:latin typeface="Arial"/>
            </a:endParaRPr>
          </a:p>
        </p:txBody>
      </p:sp>
      <p:pic>
        <p:nvPicPr>
          <p:cNvPr id="118" name="" descr="">
            <a:hlinkClick r:id="rId1"/>
          </p:cNvPr>
          <p:cNvPicPr/>
          <p:nvPr/>
        </p:nvPicPr>
        <p:blipFill>
          <a:blip r:embed="rId2"/>
          <a:stretch/>
        </p:blipFill>
        <p:spPr>
          <a:xfrm>
            <a:off x="304920" y="175248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rtistic Expressions of Modernism</a:t>
            </a:r>
            <a:endParaRPr b="0" lang="en-US" sz="4000" spc="-1" strike="noStrike">
              <a:solidFill>
                <a:srgbClr val="ccffff"/>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 became new and inventive as wel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blo Picasso and Georges Braque started Cubism. This art transformed natural shapes into geometric forms. </a:t>
            </a:r>
            <a:endParaRPr b="0" lang="en-US" sz="2800" spc="-1" strike="noStrike">
              <a:solidFill>
                <a:srgbClr val="ffffff"/>
              </a:solidFill>
              <a:latin typeface="Arial"/>
            </a:endParaRPr>
          </a:p>
        </p:txBody>
      </p:sp>
      <p:pic>
        <p:nvPicPr>
          <p:cNvPr id="121" name="" descr="">
            <a:hlinkClick r:id="rId1"/>
          </p:cNvPr>
          <p:cNvPicPr/>
          <p:nvPr/>
        </p:nvPicPr>
        <p:blipFill>
          <a:blip r:embed="rId2"/>
          <a:stretch/>
        </p:blipFill>
        <p:spPr>
          <a:xfrm>
            <a:off x="5181480" y="1371600"/>
            <a:ext cx="3505320" cy="2362320"/>
          </a:xfrm>
          <a:prstGeom prst="rect">
            <a:avLst/>
          </a:prstGeom>
          <a:ln w="0">
            <a:noFill/>
          </a:ln>
        </p:spPr>
      </p:pic>
      <p:pic>
        <p:nvPicPr>
          <p:cNvPr id="122" name="" descr="">
            <a:hlinkClick r:id="rId3"/>
          </p:cNvPr>
          <p:cNvPicPr/>
          <p:nvPr/>
        </p:nvPicPr>
        <p:blipFill>
          <a:blip r:embed="rId4"/>
          <a:stretch/>
        </p:blipFill>
        <p:spPr>
          <a:xfrm>
            <a:off x="5867280" y="38098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t continued</a:t>
            </a:r>
            <a:endParaRPr b="0" lang="en-US" sz="4400" spc="-1" strike="noStrike">
              <a:solidFill>
                <a:srgbClr val="ccffff"/>
              </a:solidFill>
              <a:latin typeface="Arial"/>
            </a:endParaRPr>
          </a:p>
        </p:txBody>
      </p:sp>
      <p:sp>
        <p:nvSpPr>
          <p:cNvPr id="12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ionist painters, like Wassily Kandinsky, used bold colors and distorted shapes to express emotion.</a:t>
            </a:r>
            <a:endParaRPr b="0" lang="en-US" sz="2800" spc="-1" strike="noStrike">
              <a:solidFill>
                <a:srgbClr val="ffffff"/>
              </a:solidFill>
              <a:latin typeface="Arial"/>
            </a:endParaRPr>
          </a:p>
        </p:txBody>
      </p:sp>
      <p:pic>
        <p:nvPicPr>
          <p:cNvPr id="125" name="" descr="">
            <a:hlinkClick r:id="rId1"/>
          </p:cNvPr>
          <p:cNvPicPr/>
          <p:nvPr/>
        </p:nvPicPr>
        <p:blipFill>
          <a:blip r:embed="rId2"/>
          <a:stretch/>
        </p:blipFill>
        <p:spPr>
          <a:xfrm>
            <a:off x="304920" y="1981080"/>
            <a:ext cx="44193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re???</a:t>
            </a:r>
            <a:endParaRPr b="0" lang="en-US" sz="4400" spc="-1" strike="noStrike">
              <a:solidFill>
                <a:srgbClr val="ccffff"/>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ism started in Europe and spread across the world.</a:t>
            </a:r>
            <a:endParaRPr b="0" lang="en-US" sz="2800" spc="-1" strike="noStrike">
              <a:solidFill>
                <a:srgbClr val="ffffff"/>
              </a:solidFill>
              <a:latin typeface="Arial"/>
            </a:endParaRPr>
          </a:p>
        </p:txBody>
      </p:sp>
      <p:pic>
        <p:nvPicPr>
          <p:cNvPr id="48" name="" descr=""/>
          <p:cNvPicPr/>
          <p:nvPr/>
        </p:nvPicPr>
        <p:blipFill>
          <a:blip r:embed="rId1"/>
          <a:stretch/>
        </p:blipFill>
        <p:spPr>
          <a:xfrm>
            <a:off x="5029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lm &amp; Photography</a:t>
            </a:r>
            <a:endParaRPr b="0" lang="en-US" sz="4400" spc="-1" strike="noStrike">
              <a:solidFill>
                <a:srgbClr val="ccffff"/>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es changed from silent films to huge Hollywood produc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graphy began being viewed as an art form and photographers held exhibitions and sold their works.</a:t>
            </a:r>
            <a:endParaRPr b="0" lang="en-US" sz="2800" spc="-1" strike="noStrike">
              <a:solidFill>
                <a:srgbClr val="ffffff"/>
              </a:solidFill>
              <a:latin typeface="Arial"/>
            </a:endParaRPr>
          </a:p>
        </p:txBody>
      </p:sp>
      <p:pic>
        <p:nvPicPr>
          <p:cNvPr id="128" name="" descr="">
            <a:hlinkClick r:id="rId1"/>
          </p:cNvPr>
          <p:cNvPicPr/>
          <p:nvPr/>
        </p:nvPicPr>
        <p:blipFill>
          <a:blip r:embed="rId2"/>
          <a:stretch/>
        </p:blipFill>
        <p:spPr>
          <a:xfrm>
            <a:off x="5562720" y="1523880"/>
            <a:ext cx="2590560" cy="42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ding Quote</a:t>
            </a:r>
            <a:endParaRPr b="0" lang="en-US" sz="4400" spc="-1" strike="noStrike">
              <a:solidFill>
                <a:srgbClr val="cc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orks of art always spring from those who have faced the danger, gone to the very end of an experience, to the point beyond which no human being can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ainer Maria Rilk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this quote?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going on???</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20</a:t>
            </a:r>
            <a:r>
              <a:rPr b="0" lang="en-US" sz="2400" spc="-1" strike="noStrike" baseline="30000">
                <a:solidFill>
                  <a:srgbClr val="ffffff"/>
                </a:solidFill>
                <a:latin typeface="Arial"/>
              </a:rPr>
              <a:t>th</a:t>
            </a:r>
            <a:r>
              <a:rPr b="0" lang="en-US" sz="2400" spc="-1" strike="noStrike">
                <a:solidFill>
                  <a:srgbClr val="ffffff"/>
                </a:solidFill>
                <a:latin typeface="Arial"/>
              </a:rPr>
              <a:t> century was a time of great chang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one hand, democracy was spreading and there were great scientific and technological advan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it was the most violent and destructive century in human histor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nyone know why these things are true?</a:t>
            </a:r>
            <a:endParaRPr b="0" lang="en-US" sz="2400" spc="-1" strike="noStrike">
              <a:solidFill>
                <a:srgbClr val="ffffff"/>
              </a:solidFill>
              <a:latin typeface="Arial"/>
            </a:endParaRPr>
          </a:p>
        </p:txBody>
      </p:sp>
      <p:pic>
        <p:nvPicPr>
          <p:cNvPr id="51" name="" descr=""/>
          <p:cNvPicPr/>
          <p:nvPr/>
        </p:nvPicPr>
        <p:blipFill>
          <a:blip r:embed="rId1"/>
          <a:stretch/>
        </p:blipFill>
        <p:spPr>
          <a:xfrm>
            <a:off x="4876920" y="16765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ruggles for Power</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20</a:t>
            </a:r>
            <a:r>
              <a:rPr b="0" lang="en-US" sz="3200" spc="-1" strike="noStrike" baseline="30000">
                <a:solidFill>
                  <a:srgbClr val="ffffff"/>
                </a:solidFill>
                <a:latin typeface="Arial"/>
              </a:rPr>
              <a:t>th</a:t>
            </a:r>
            <a:r>
              <a:rPr b="0" lang="en-US" sz="3200" spc="-1" strike="noStrike">
                <a:solidFill>
                  <a:srgbClr val="ffffff"/>
                </a:solidFill>
                <a:latin typeface="Arial"/>
              </a:rPr>
              <a:t> century there were two World Wars, a Cold War and independence movements against Europe in Africa and A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ould there be movements against Europe? Think back to the Realism power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a:t>
            </a:r>
            <a:endParaRPr b="0" lang="en-US" sz="4400" spc="-1" strike="noStrike">
              <a:solidFill>
                <a:srgbClr val="ccffff"/>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I lasted from 1914-1918. During this time it was called “The Great W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1"/>
          <a:stretch/>
        </p:blipFill>
        <p:spPr>
          <a:xfrm>
            <a:off x="0" y="16002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 Continued</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ne side was the Central Powers: Germany, Austria-Hungary, Bulgaria and the Ottoman Empire.</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side was the Allied Powers: Russia, France, Great Brittan, Italy and eventually America.</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9" name="" descr=""/>
          <p:cNvPicPr/>
          <p:nvPr/>
        </p:nvPicPr>
        <p:blipFill>
          <a:blip r:embed="rId1"/>
          <a:stretch/>
        </p:blipFill>
        <p:spPr>
          <a:xfrm>
            <a:off x="4876920" y="1981080"/>
            <a:ext cx="3886200" cy="38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ench Warfare</a:t>
            </a:r>
            <a:endParaRPr b="0" lang="en-US" sz="4400" spc="-1" strike="noStrike">
              <a:solidFill>
                <a:srgbClr val="ccffff"/>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WWI a tactic called trench warfare was used. Both sides dug long trenches in order to protect themselves from enemy fir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renches were muddy, cold and infested with rat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nyone know any other information about trench warfare? What was a common disease soldiers got in trenches?</a:t>
            </a:r>
            <a:endParaRPr b="0" lang="en-US" sz="2400" spc="-1" strike="noStrike">
              <a:solidFill>
                <a:srgbClr val="ffffff"/>
              </a:solidFill>
              <a:latin typeface="Arial"/>
            </a:endParaRPr>
          </a:p>
        </p:txBody>
      </p:sp>
      <p:pic>
        <p:nvPicPr>
          <p:cNvPr id="62" name="" descr=""/>
          <p:cNvPicPr/>
          <p:nvPr/>
        </p:nvPicPr>
        <p:blipFill>
          <a:blip r:embed="rId1"/>
          <a:stretch/>
        </p:blipFill>
        <p:spPr>
          <a:xfrm>
            <a:off x="609480" y="1219320"/>
            <a:ext cx="35816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ench Foot</a:t>
            </a:r>
            <a:endParaRPr b="0" lang="en-US" sz="4400" spc="-1" strike="noStrike">
              <a:solidFill>
                <a:srgbClr val="ccffff"/>
              </a:solidFill>
              <a:latin typeface="Arial"/>
            </a:endParaRPr>
          </a:p>
        </p:txBody>
      </p:sp>
      <p:pic>
        <p:nvPicPr>
          <p:cNvPr id="64" name="" descr="">
            <a:hlinkClick r:id="rId1"/>
          </p:cNvPr>
          <p:cNvPicPr/>
          <p:nvPr/>
        </p:nvPicPr>
        <p:blipFill>
          <a:blip r:embed="rId2"/>
          <a:stretch/>
        </p:blipFill>
        <p:spPr>
          <a:xfrm>
            <a:off x="2209680" y="2514600"/>
            <a:ext cx="50292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4:59:48Z</dcterms:created>
  <dc:creator>ahanch</dc:creator>
  <dc:description/>
  <dc:language>en-US</dc:language>
  <cp:lastModifiedBy>user</cp:lastModifiedBy>
  <dcterms:modified xsi:type="dcterms:W3CDTF">2007-03-28T13:43:55Z</dcterms:modified>
  <cp:revision>13</cp:revision>
  <dc:subject/>
  <dc:title>Modernism</dc:title>
</cp:coreProperties>
</file>